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D447-5370-4CEE-8A59-F76F4F73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92F7-EB0E-4FE8-9515-A2BC9ABC1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E0D-3738-4554-86C4-3F5D1624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532A-89C5-4F5D-9411-C3B27621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A81-35EB-4E5E-9501-BEA750951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562-6194-48E1-8B2A-6C0CE4C6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33C-E171-4E46-BE5C-C62D81041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B243-1F6E-4EF1-A151-542055B3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6ACB-D695-4202-8024-E824CCDC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EED-16F6-4838-8805-3CD12601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C00-620B-43AC-8552-93E9911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8DA-DEBB-4088-BC7C-414FCA66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3A0-57BE-4E67-BCD7-CCAE620F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F0B1-96AF-45A5-B79A-24710009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CDB-324F-4185-BC46-0794880F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42EF-76A9-4CAD-AF0F-7A72A791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ECFA-FA25-4441-9BCA-01080B4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D17B-6540-4001-9423-9956E89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E5C8-9D48-4DDC-AA11-CDD780A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89B8-9324-472E-A30E-26B50CB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AD9-FFEB-4CC1-9296-3492D5B7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C7C7-9E9D-4C49-A03C-B225D34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C01-CE49-40E8-8641-15AC6B5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E619-2FBA-4874-86F4-8E83241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2A71-11FC-4075-8A67-C394010D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CF41-0F4D-4606-B4C5-57DB919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3A5-D94A-4CFD-B7A9-2D660B2B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382-6227-49F4-B6B5-5D692C5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9CC-F13B-4E14-A8EB-46825DAB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3A9-E760-45E7-A39C-4DCD5B3D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B55-A444-4F1B-B59F-DE29578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0CD-77DC-40C1-837E-60DC878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75E-971F-4847-8568-A7885DB4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Borders\BackgroundLandscape\GCT00236.wmf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Borders\BackgroundLandscape\GCT00236.wmf"/>
          <p:cNvPicPr/>
          <p:nvPr/>
        </p:nvPicPr>
        <p:blipFill>
          <a:blip r:embed="rId3"/>
          <a:srcRect l="60834" t="60843" r="20834" b="18520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8594-D5F9-4EF7-967F-25C88E8F4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Borders\BackgroundLandscape\GCT00236.wmf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DBE7-5D4B-4E36-AD7F-92EC89FAC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reatest Common F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is and how to fin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est Common Factor (GC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est common factor is the largest factor that two numbers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find the GCF of 12 and 42.  First, we need to make a list of factors for each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09480" y="45720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0492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1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1752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86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286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52280" y="33526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28800" y="1523880"/>
            <a:ext cx="320040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1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6,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791320" y="533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533412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10080" y="1143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41008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410080" y="2209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4100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34120" y="320040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41008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5334120" y="3809880"/>
            <a:ext cx="14475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5410080" y="3962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41008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5334120" y="4952880"/>
            <a:ext cx="12189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523880" y="3276720"/>
            <a:ext cx="381024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4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6, 7, 14, 21,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0" y="5410080"/>
            <a:ext cx="6629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2, 3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914400" y="6207120"/>
            <a:ext cx="65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st Common Factor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CF of 18 and 27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572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86600" y="1295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670572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0492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04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04920" y="3048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04920" y="3733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28600" y="411480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049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28600" y="47242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0492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152280" y="541008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362320" y="1371600"/>
            <a:ext cx="312408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18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6, 9,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70572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705720" y="228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629400" y="2666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70572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7057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6629400" y="350532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6705720" y="3657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6705720" y="3962520"/>
            <a:ext cx="990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70572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6553080" y="4495680"/>
            <a:ext cx="1447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67057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6553080" y="487692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670572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6553080" y="53341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670572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6629400" y="57150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2362320" y="3124080"/>
            <a:ext cx="312408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27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3, 9,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362320" y="4648320"/>
            <a:ext cx="3733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3,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362320" y="6019920"/>
            <a:ext cx="373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CF: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CF of 48 and 6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20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45720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990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8195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522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522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52280" y="2514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52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152280" y="3657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438280" y="1905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4382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438280" y="2819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243828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43828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648320" y="685800"/>
            <a:ext cx="419076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48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6, 8, 12, 16, 24, 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572000" y="2819520"/>
            <a:ext cx="426708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60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5, 6, 10, 12, 15, 20, 30,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04920" y="4952880"/>
            <a:ext cx="739116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2, 3, 4, 6,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04920" y="579132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CF: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ime 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90720" y="1828800"/>
            <a:ext cx="7696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rime factorization of each numb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mon factors and multiply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CF of 27 and 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440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837720" y="2286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95280" y="2286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0880" y="2895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85800" y="29718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H="1">
            <a:off x="1371240" y="34290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600200" y="34290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66680" y="4191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990720" y="42670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1752480" y="42670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. 3x3x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124080" y="1752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320004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3505320" y="22860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895480" y="2711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2895480" y="2819520"/>
            <a:ext cx="457200" cy="5331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H="1">
            <a:off x="3657240" y="3352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3962520" y="3352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3526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3276720" y="40384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4"/>
          <p:cNvSpPr/>
          <p:nvPr/>
        </p:nvSpPr>
        <p:spPr>
          <a:xfrm flipH="1">
            <a:off x="3885840" y="4495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4191120" y="44956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3657600" y="4952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3581280" y="50292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4343400" y="50292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048120" y="5867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. 2x2x3x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5029200" y="1828800"/>
            <a:ext cx="297180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rime factorizations have 3x3 in 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the GCF is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you can use Our Friend Venn to organize your factor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numbers (look where the two circles overlap for GCF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ontent Placeholder 6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Content Placeholder 8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2133720" y="3657600"/>
            <a:ext cx="76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 factors of both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5562720" y="38862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6781680" y="3886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6324480" y="480060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Straight Arrow Connector 13"/>
          <p:cNvCxnSpPr/>
          <p:nvPr/>
        </p:nvCxnSpPr>
        <p:spPr>
          <a:xfrm flipV="1">
            <a:off x="5334120" y="4419000"/>
            <a:ext cx="1372320" cy="1905480"/>
          </a:xfrm>
          <a:prstGeom prst="straightConnector1">
            <a:avLst/>
          </a:prstGeom>
          <a:ln cap="sq" w="3168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13" name="TextBox 20"/>
          <p:cNvSpPr/>
          <p:nvPr/>
        </p:nvSpPr>
        <p:spPr>
          <a:xfrm>
            <a:off x="1981080" y="6273720"/>
            <a:ext cx="3886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ic triangle!  Put factors shared by all three numbers here!  That’s the GCF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0:34:05Z</dcterms:created>
  <dc:creator>Administrator</dc:creator>
  <dc:description/>
  <dc:language>en-US</dc:language>
  <cp:lastModifiedBy>Home</cp:lastModifiedBy>
  <dcterms:modified xsi:type="dcterms:W3CDTF">2010-11-14T16:19:19Z</dcterms:modified>
  <cp:revision>30</cp:revision>
  <dc:subject/>
  <dc:title>Least Common Multiples and Greatest Common Factors</dc:title>
</cp:coreProperties>
</file>